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FBA-87F2-451A-9146-B1034280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50B-BDA7-4955-9E61-847843E8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CA5-ECF5-4C16-80E6-60279086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9F6-DB9F-4EE9-BCAA-810B4558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8543-9292-410B-B7D9-1B013858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8EE0-37DD-4C61-820F-15CDC7C3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EEC7-2F7C-443E-88F1-83C6458A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5298-36BE-4639-9E9D-F3987766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EB59-F14E-443A-AF10-82748822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4814-DCDE-42F8-87C7-E352F4AA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B11E-623F-48ED-B4B5-DCC35F7B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40B-0F07-4A24-847D-D3AB0A04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F55E-A52C-4953-96EB-228BB397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4949-D718-4B85-A379-9F687EFF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6BD3-DF8B-45DD-8D5D-0AED7480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81EF-1181-48FA-8007-5276F7F8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36B6-70C5-41E9-A7AF-35175065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842-1DDB-48EC-A8B0-06EDB1E2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122-1A5B-4F36-A3B9-E485679F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096-5AB7-4EF7-8143-E91BEAA1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56D-5B4C-4048-87E8-22ACD263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084-F41E-4FF0-86E4-198E3736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4CA-1338-4359-9EDC-537ADF4E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B80-9ABB-4F3E-A97E-8233B92B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C504-0750-4B61-8932-ED572C1406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0625-1D75-4EDC-B574-648B10862F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2924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1268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eral equation of a cir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58920" y="1557360"/>
            <a:ext cx="662616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773360"/>
            <a:ext cx="745164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17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uild skills  Comple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 3A    Q 1,  Q2,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What_do_you_see_19.jpg"/>
          <p:cNvPicPr/>
          <p:nvPr/>
        </p:nvPicPr>
        <p:blipFill>
          <a:blip r:embed="rId2"/>
          <a:stretch/>
        </p:blipFill>
        <p:spPr>
          <a:xfrm>
            <a:off x="2916360" y="1052640"/>
            <a:ext cx="5568840" cy="501336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112" name="Rectangle 2"/>
          <p:cNvSpPr/>
          <p:nvPr/>
        </p:nvSpPr>
        <p:spPr>
          <a:xfrm>
            <a:off x="539640" y="1773360"/>
            <a:ext cx="1728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do you se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ursday, 08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981000"/>
            <a:ext cx="3313080" cy="79236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B Standard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2205000"/>
            <a:ext cx="3313080" cy="439272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1916280"/>
            <a:ext cx="3313080" cy="439236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492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637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  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4 + 1      d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2997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2997360"/>
            <a:ext cx="36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492280"/>
            <a:ext cx="2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0" y="2565360"/>
            <a:ext cx="2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263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573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+ 4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–  1  + 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386064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              4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3429000"/>
            <a:ext cx="43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3933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3645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3933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4:38:39Z</dcterms:created>
  <dc:creator>chale</dc:creator>
  <dc:description/>
  <dc:language>en-US</dc:language>
  <cp:lastModifiedBy>Caroline</cp:lastModifiedBy>
  <dcterms:modified xsi:type="dcterms:W3CDTF">2009-01-07T21:56:54Z</dcterms:modified>
  <cp:revision>26</cp:revision>
  <dc:subject/>
  <dc:title>Higher Circle</dc:title>
</cp:coreProperties>
</file>